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4D9-6013-47BB-BDAD-3FB6A020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D23-DCAE-4135-A47F-E0F1E7D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112-37C7-493B-B519-1A42526C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CD6-630F-47EB-9963-507250B7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031-6476-4439-B206-42A0C70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72B-18B1-4E05-B9DA-25949FF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80B-0343-42A0-916E-296D01D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C25-4327-4778-AAF4-4265159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7F1-8D73-4DB9-81B5-00337C0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0D2-6CBA-4FA4-8A0E-AA1433C5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C93-D585-4621-A6EB-D84821F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855-4195-4F17-9DFF-432F0BE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557C-8361-4EF7-B8AC-4D33D62C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OLO DELL’ALLEN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’allenatore deve saper gesti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apporti con i dirigenti della Società sportiva di apparten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apporti con l’es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apporti con gli altri tecnici della Societ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ituazione didattica della sq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a qualità del lavoro dell’allenatore è legata necessariamente ad elementi non solo tec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7772400" y="4495680"/>
            <a:ext cx="90504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DA5-A34D-46AD-8EE8-7813DF7CF591}" type="slidenum">
              <a:t>1</a:t>
            </a:fld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competenze pedagogiche dell’allen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pere entrare in comunicazione con gli atleti fornendo le istruzioni e le indicazioni più idonee sapendo 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ttività o l’inattività, il silenzio , le parole, sono messaggi che influenzano gli altri a cui gli altri non possono non rispond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ni comunicazione ha un aspetto di relazione e uno di conten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301-04A5-407C-B879-9A93759F950E}" type="slidenum">
              <a:t>10</a:t>
            </a:fld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munic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ò che ci fa capire e situare in un contesto un messaggio è il modo in cui viene espres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ontenuto è la componente informativa della comunic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spetto di relazione dice come deve essere inteso il messagg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560-1E85-4C0F-9A6F-3E1A0A546E45}" type="slidenum">
              <a:t>11</a:t>
            </a:fld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competenze pedagogiche dell’allen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pere ascolt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 mi sta realmente dicendo questo atle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 sentimenti sta prov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 vuole da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5B4-263D-4B2E-96AC-B71AB3C28078}" type="slidenum">
              <a:t>12</a:t>
            </a:fld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gliorare la capacità di ascol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ndere tempo a sufficienza per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o si ascolta evitare di essere interrotti da altre pers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e le occasioni di dist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rsi sulla comprensione del messaggio che si sta riceve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ersone percepiscono interesse quando si sentono incoraggiati a parlare e percepiscono attraverso segnali verbali e non verbali interesse da parte di chi asco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CE2-A4D4-4199-B38D-936D5A1F9D30}" type="slidenum">
              <a:t>13</a:t>
            </a:fld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competenze pedagogiche dell’allen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er motivare gli atleti ad un impegno co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er analizzare e interpretare i bisogni degli atleti e saperli osservare in modo pertinente agli obiettivi del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er selezionare i compiti al fine di creare situazioni che facilitino gli apprend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er verificare e valutare l’efficacia dell’inseg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E7E-95BB-4CBA-8FA6-3D15804AA944}" type="slidenum">
              <a:t>14</a:t>
            </a:fld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relazione: La Socie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zione del contra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zione degli obi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zione degli ambiti di competenza all’interno della squa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zione dei propri compiti all’interno della Soci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157-161F-4105-A599-7FE0C15BFB86}" type="slidenum">
              <a:t>2</a:t>
            </a:fld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relazione : L’est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apporti con la sta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apporti con i genitori in caso di squadra giova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apporti con gli enti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apporti con chi gestisce la palestr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l’Ufficio comunale, la Società appaltata, il custode, l’addetto alla pulizia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265-5AA0-434D-8B8E-7B2E71105B77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relazione : I Tecnic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e parole chiave che devono guidare il team tecnico di una Società Sportiva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La programmazio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l confron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l dialogo</a:t>
            </a: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Un allenatore del Settore giovanile semina, altri raccolg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10D-FA03-470C-88E9-B35DCD762353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relazione : I tecn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Times New Roman"/>
              </a:rPr>
              <a:t>I Tecnici devono riunirsi per definire la programmazione a lungo e medio termine e stabili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li obiettivi finali e la determinazione degli obiettivi intermedi per verificare in itinere i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celta delle 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uddivisione dei periodi di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valutazione degli obiettivi f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proprie compet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03C-3C18-4AF1-92EE-739F7F6386D9}" type="slidenum">
              <a:t>5</a:t>
            </a:fld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relazione : I tecn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l confronto e il dia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 avvenire sempre nella sede gi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 alla presenza degli atl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 alla presenza di estran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 alla presenza di giornali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mente da evitare alla fine di una part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275-9A99-407C-B1BB-A28E5C2037D6}" type="slidenum">
              <a:t>6</a:t>
            </a:fld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Situazione Didat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Il rapporto didattico si istiutisce in funzione 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ipo di squadra allenat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(età, sesso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pi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rupp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vidu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Il giusto equilibrio e la modulazione tra queste componenti determina le motivazioni appropriate e  l’efficacia dell’intervento didattico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ECD-0F70-4320-ABEB-87ADC271A592}" type="slidenum">
              <a:t>7</a:t>
            </a:fld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pi di squad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’età, il sesso, la tipologia del campionato da affrontare e la classifica influenza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tip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motivazioni da forn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i obiettivi da raggiung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empi per il raggiungimento degli obi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91F-9C39-4C82-AE94-F60C6D4BE95D}" type="slidenum">
              <a:t>8</a:t>
            </a:fld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compito, il gruppo, l’individ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ono i componenti dell’allenamento e vanno considerati in modo equilibra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compito: sono gli esercizi prop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gruppo: è la squadra nel suo insieme senza dimenticare ness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individuo: è la personalità di ognuno con tutti i pregi e i difet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a squadra, nel senso più autentico, non è la somma bensì la moltiplicazione di tutte le individual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5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88C-DA89-49B3-9077-462B7DA5F2AC}" type="slidenum">
              <a:t>9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7:07:33Z</dcterms:created>
  <dc:creator>Marangon</dc:creator>
  <dc:description/>
  <dc:language>en-US</dc:language>
  <cp:lastModifiedBy>dani.</cp:lastModifiedBy>
  <dcterms:modified xsi:type="dcterms:W3CDTF">1980-01-04T00:19:05Z</dcterms:modified>
  <cp:revision>22</cp:revision>
  <dc:subject/>
  <dc:title>Corso allenatori di primo grado</dc:title>
</cp:coreProperties>
</file>