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6C2-49E4-435A-AE86-FEED117C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C68-697D-4574-B3B0-71089BB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718-FE75-4604-9294-82375425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C9D-D41A-4EF7-86D3-8CE8D31C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021-AC46-4811-8A2F-F8479C7A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CF7-DB06-4A61-A892-AC03BFE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A3B-0A08-438C-AB63-B9FF9A8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835-DDC3-4EBB-9E22-FD2A7EE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2AD-6EAE-413B-9157-4C69FDE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061-0031-4751-80E3-17F8827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17E-CA73-4881-9EBE-D2FCBBC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8E4-27AD-465E-8740-2DE839F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418-39DB-4106-A60F-498679BF4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ezione su battuta flot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tteristiche tecn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zione di partenza rilassata ed equilibrata, gambe leggermente piegate e spalle sciol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spostamento deve anticipare l’arrivo della palla e permettere all’atleta di orientare il piano di rimbalzo vero la zona ottimale di rice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8001000" y="1447920"/>
            <a:ext cx="905040" cy="97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606-1257-4303-8DD7-766A06FE7BBC}" type="slidenum">
              <a:t>1</a:t>
            </a:fld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zione a d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 di ricezione che prevede un’alta spec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ette di utilizzare in ricezione solo gli atleti più abili escludendo gli alt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lude dalla ricezione gli attaccanti di primo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870-D196-4820-AB1A-FA9A27A2F6A6}" type="slidenum">
              <a:t>10</a:t>
            </a:fld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zioni metodolog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analitici per stabilizzare il fondame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sintetici che abbinino due o più fondamentali per permettere di migliorare il fondamentale in situazione di gio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zione /attac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zione/cop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8DD-6ABF-4145-8B43-23386E7DAD1A}" type="slidenum">
              <a:t>11</a:t>
            </a:fld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globali di gioco con richieste tecniche di carattere anali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o corretto delle tecniche di ricezione rispetto ai tipi di battu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0E0-11AC-4690-82F3-0E70FFF37DB5}" type="slidenum">
              <a:t>12</a:t>
            </a:fld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696-1537-46D1-A5E6-F0C89E509EAB}" type="slidenum">
              <a:t>13</a:t>
            </a:fld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tto con la pal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omento dell’impatto con la palla , gli arti inferiori, che sono semi-piegati,si estendono per determinare la traiettoria di uscita della stessa, mentre le braccia sono ferme allungate avanti mantenendo l’inclinazione otti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8E7-EA57-4C63-9F60-1C136E5C571F}" type="slidenum">
              <a:t>2</a:t>
            </a:fld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allone può essere intercet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mente a destra e sini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2F1-BE37-42B5-93E5-898316F3F850}" type="slidenum">
              <a:t>3</a:t>
            </a:fld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ezione in palle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ò essere utilizzata per ricevere le battute flot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osizione di partenza deve sempre essere in equilibrio e tale da permettere eventuali adattam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nica del palleggio : la palla va contatta leggermente più in basso e avanti rispetto al palleggio didat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0E7-4B9F-43F2-9F1E-CE4DA5BDEF39}" type="slidenum">
              <a:t>4</a:t>
            </a:fld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ezione della battuta in 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cnica della ricezione della battuta in salto, si avvicina a quella degli interventi difensivi rispetto ad un attacco più o meno f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46A-8C30-4B35-89FE-E2952FBA0C4A}" type="slidenum">
              <a:t>5</a:t>
            </a:fld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zione di parten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zionarsi in modo da intercettare la palla davanti o lateralmente rispetto alla posizione di parte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be divaricate, ginocchia in avanti, baricentro abbass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ccia protese in av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EDA-E901-455E-9C9E-236DD11A50AE}" type="slidenum">
              <a:t>6</a:t>
            </a:fld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l’impatto con la palla unire le braccia per formare il piano di rimbalzo, orientando le spalle verso la zona dove inviare la p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e battute che arrivano a destra o a sinistra l’atleta deve intervenire con un bagher con adattamento late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04D-BFA8-4DB4-A1DF-E9EFA44BA58D}" type="slidenum">
              <a:t>7</a:t>
            </a:fld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ica di squa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zazione dei giocatori in campo per poter mettere il palleggiatore nelle condizioni ottimali per sfruttare al meglio le caratteristiche degli attacca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gliere il sistema di ricezione che permette di utilizzare nel modo migliore i propri giocatori esaltandone le loro abilità tecn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F6A-579F-4659-8A30-06761E824A72}" type="slidenum">
              <a:t>8</a:t>
            </a:fld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i di rice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zione a tre (inserire diseg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ni giocatore deve coprire una fascia del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ne utilizzata per ricevere la battuta in salto (in situazioni tattiche particolari si può utilizzare un quarto ricevi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2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B27-8FA1-4025-A505-2B190B2A4E1E}" type="slidenum">
              <a:t>9</a:t>
            </a:fld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8:42:10Z</dcterms:created>
  <dc:creator>Marangon</dc:creator>
  <dc:description/>
  <dc:language>en-US</dc:language>
  <cp:lastModifiedBy>Fipav C.R. Veneto</cp:lastModifiedBy>
  <dcterms:modified xsi:type="dcterms:W3CDTF">2002-04-11T15:37:07Z</dcterms:modified>
  <cp:revision>22</cp:revision>
  <dc:subject/>
  <dc:title>Modulo 2 c</dc:title>
</cp:coreProperties>
</file>