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E875-0E31-4DAC-A39E-7C7D62F8C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992D-4BA0-4BFF-A725-675808A40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09C3-F68B-4A1A-8D50-557D1D372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82C1-70FA-471C-9598-345B77EA0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C53EA-1A62-49B7-8D79-9E89405E3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86D0C-57BD-4B66-82EB-A5EF1BC94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E2958-BA41-4408-96E6-D3D330EFC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9F676-19C5-41A5-B0E6-95087ACE2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09730-8DE9-4D46-B296-08CA7939E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356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A90A4-DAD5-487B-84F4-3ABC5E2EC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21FCF-6E44-44C3-85CA-0D4912DF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83E7-7DB5-4EF1-952A-4FC6FEC75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131E9-CAD6-485F-96B5-469A2B90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2C038-83F5-4BE1-B042-009EDD9F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5C5C0-FEC9-452C-89AE-73F585EF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795A9-441B-48BA-BAC0-97676BAE4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1843A-A4C6-4EA7-8E11-2581AE359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FA38-9AFF-4962-A2DA-E857AE30E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9FF4-C345-480F-80DD-3194A0E02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7AFA-5590-4EA0-8C00-70946AAEB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356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5CBD-3540-4990-AC64-733042B2A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848C-08C7-4D9A-99BA-42901A8A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0E3A-BB2B-4203-BBC2-332E3D45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8B09-7FF2-48E6-8D60-157DB056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FC70B-FEEA-4A01-95B3-C6DC0D53B368}" type="slidenum">
              <a:rPr b="0" lang="it-IT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3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1788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13A08-F544-4D0E-A562-6449F9C74E0B}" type="slidenum">
              <a:rPr b="0" lang="it-IT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3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1788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APRENDIMENTO E SVILUPPO MOTOR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2514600"/>
            <a:ext cx="8305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it-IT" sz="3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3200" spc="-1" strike="noStrike">
                <a:solidFill>
                  <a:srgbClr val="ff3300"/>
                </a:solidFill>
                <a:latin typeface="Times New Roman"/>
              </a:rPr>
              <a:t>fase della coordinazione grezz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movimento impreciso, forte intervento della coscienza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it-IT" sz="3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3200" spc="-1" strike="noStrike">
                <a:solidFill>
                  <a:srgbClr val="ff3300"/>
                </a:solidFill>
                <a:latin typeface="Times New Roman"/>
              </a:rPr>
              <a:t>fase della coordinazione fin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Movimento fluido e preciso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it-IT" sz="3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3200" spc="-1" strike="noStrike">
                <a:solidFill>
                  <a:srgbClr val="ff3300"/>
                </a:solidFill>
                <a:latin typeface="Times New Roman"/>
              </a:rPr>
              <a:t>fase della coordinazione avanzat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movimento automatizzato, attenzione spostata sugli aspetti tattici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6" name="C:\Archivio\Image\Volley\Logotipi\Fipav Logotipo.tif" descr=""/>
          <p:cNvPicPr/>
          <p:nvPr/>
        </p:nvPicPr>
        <p:blipFill>
          <a:blip r:embed="rId2"/>
          <a:stretch/>
        </p:blipFill>
        <p:spPr>
          <a:xfrm>
            <a:off x="8001000" y="685800"/>
            <a:ext cx="905040" cy="97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odulo 1° 1 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B2BE4-E292-4DA4-895F-581BB633D746}" type="slidenum">
              <a:t>1</a:t>
            </a:fld>
          </a:p>
        </p:txBody>
      </p:sp>
    </p:spTree>
  </p:cSld>
  <p:transition spd="slow"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 Fattori della prestazion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3818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er la rapidità bisogna tener conto della forza necessaria e dello sviluppo della coordinazion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er le capacità coordinative l’età scolare (fanciullezza) risulta essere la migliore per l’apprendimento motorio, l’adolescenza è un momento critic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o 1° 1 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620A-D244-484F-B902-0FC9062DDD4E}" type="slidenum">
              <a:t>10</a:t>
            </a:fld>
          </a:p>
        </p:txBody>
      </p:sp>
    </p:spTree>
  </p:cSld>
  <p:transition spd="slow"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riteri per la determinazione dei periodi di tempo più favorevoli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llenabilità e capacità di apprendimen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apacità di carico psico/fisic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Modello di prestazione specifico della pallavo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o 1° 1 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A713-67A0-473B-B6AA-4799E2DA4BB7}" type="slidenum">
              <a:t>11</a:t>
            </a:fld>
          </a:p>
        </p:txBody>
      </p:sp>
    </p:spTree>
  </p:cSld>
  <p:transition spd="slow"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566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riteri per la determinazione dei periodi di tempo più favorevoli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Quali sono le capacità le abilità che influenzano la prestazione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Quali sono i presupposti da realizzare per poter affrontare senza problemi un allenamento di alto livello per vari ann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o 1° 1 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EC9F-5174-4AFD-848D-CDAFFCF88787}" type="slidenum">
              <a:t>12</a:t>
            </a:fld>
          </a:p>
        </p:txBody>
      </p:sp>
    </p:spTree>
  </p:cSld>
  <p:transition spd="slow"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LE ABILITA’ TECNICH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TECNICHE: vengono definiti i fondamentali di gio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TECNICA: modello ideale di un movimento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o 1° 1 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45E1-4C78-4B04-95CA-826CD03AA1AB}" type="slidenum">
              <a:t>13</a:t>
            </a:fld>
          </a:p>
        </p:txBody>
      </p:sp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ABILITA’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0000"/>
                </a:solidFill>
                <a:latin typeface="Times New Roman"/>
              </a:rPr>
              <a:t>possesso automatizzato di un movimento, acquisito in un processo di apprendimento per mezzo di una serie di esercitazio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l controllo cosciente del movimento diminuisce gradualmente quando si passa dall’apprendimento al dominio della tecnica, che resta sempre sottoponibile alla coscienz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o 1° 1 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78A9-4601-4E83-AF50-B679B78BCFD4}" type="slidenum">
              <a:t>14</a:t>
            </a:fld>
          </a:p>
        </p:txBody>
      </p:sp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356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ABILITA’  TATTICH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0000"/>
                </a:solidFill>
                <a:latin typeface="Times New Roman"/>
              </a:rPr>
              <a:t>Organizzazione cosciente secondo un piano delle abilità tattich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a coscienza si concentra sull’utilizzo variabile dell’abilità in corrispondenza del compito tattic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Si distinguono per la sicurezza e precisione esecuti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Possibilità di applicare le tecniche possedute in modo variabile dal punto di vista energetico sulla base della situazione di gioc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o 1° 1 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B54B-9A6A-4B6C-A40B-2615F119A155}" type="slidenum">
              <a:t>15</a:t>
            </a:fld>
          </a:p>
        </p:txBody>
      </p:sp>
    </p:spTree>
  </p:cSld>
  <p:transition spd="slow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CAPACITA’ TATTICH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0000"/>
                </a:solidFill>
                <a:latin typeface="Times New Roman"/>
              </a:rPr>
              <a:t>Facoltà di un atleta di utilizzare le sue capacità psichiche e fisiche, le sue abilità motorie, tattiche, secondo le condizioni di gara , per risolvere compiti tattici individuali e di squadr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o 1° 1 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BD4D-2B5B-45E8-807C-EE322524E94F}" type="slidenum">
              <a:t>16</a:t>
            </a:fld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pprendimento di successioni di movimenti individuali e di gruppo sia in forma generale che fin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tabilizzazione della coordinazione f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dattamento del movimento alle condizioni mutevoli (variazione dei parametri spazio-temporali, della combinazione di più tecniche, dell’organizzazione tattic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o 1° 1 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E8E2-CEB4-47AF-95A2-77E74550B16A}" type="slidenum">
              <a:t>2</a:t>
            </a:fld>
          </a:p>
        </p:txBody>
      </p:sp>
    </p:spTree>
  </p:cSld>
  <p:transition spd="slow"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Come insegna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Times New Roman"/>
              </a:rPr>
              <a:t>Come insegnare un nuovo elemento tecnic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rappresentare nel modo più preciso possibile il movimento con dimostrazioni e spiegazion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utilizzare esercizi propedeutici che facilitino il processo di apprendime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e ripetizioni devono essere frequenti e in condizioni costanti per poter fissare l’apprendime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o 1° 1 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7338-9829-4478-95BD-45750C642377}" type="slidenum">
              <a:t>3</a:t>
            </a:fld>
          </a:p>
        </p:txBody>
      </p:sp>
    </p:spTree>
  </p:cSld>
  <p:transition spd="slow"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CONSOLIDAMENTO DEGLI ELEMENTI TECNICI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ssimilata la tecnica di base i vari elementi tecnici vengono esercitati inserendo varianti, combinandoli con altri elementi,secondo le richieste del gioc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Vanno aumentate le richieste di carattere coordinativo e condizionale (maggior precisione e velocità di esecuzione, utilizzo max. delle proprie capacità fisich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o 1° 1 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EC84-4783-4350-A83F-6D6A4F9C06FF}" type="slidenum">
              <a:t>4</a:t>
            </a:fld>
          </a:p>
        </p:txBody>
      </p:sp>
    </p:spTree>
  </p:cSld>
  <p:transition spd="slow"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er sviluppare i requisiti tecnici del gioco bisogna esercitare le successioni di movimenti sia in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condizioni standardizzate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(con un elevato numero di ripetizioni), sia in condizioni di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continuo cambiame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o 1° 1 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45A2-5B87-46BF-B520-42B3616D43D0}" type="slidenum">
              <a:t>5</a:t>
            </a:fld>
          </a:p>
        </p:txBody>
      </p:sp>
    </p:spTree>
  </p:cSld>
  <p:transition spd="slow"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356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Età delle massime prestazioni nello spor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Fase di crescita nell’infanz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maggior capacità di prestazione nella giovinezza e prima età adul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fase di mantenime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fase di regresso col passare dell’et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o 1° 1 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0C26-EAE9-4D41-BF66-F3F80F93C497}" type="slidenum">
              <a:t>6</a:t>
            </a:fld>
          </a:p>
        </p:txBody>
      </p:sp>
    </p:spTree>
  </p:cSld>
  <p:transition spd="slow"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56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Allenabilità delle capacità motorie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Tutte le capacità motorie possono essere influenzate positivamente per l’intero arco della vita con esercitazioni e allenamenti adeguat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nche l’invecchiamento biologico può essere influenzato da un allenamento appropria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o 1° 1 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2B9A-5AF6-42AF-B87F-2473B00B1A52}" type="slidenum">
              <a:t>7</a:t>
            </a:fld>
          </a:p>
        </p:txBody>
      </p:sp>
    </p:spTree>
  </p:cSld>
  <p:transition spd="slow"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 Fattori della prestazion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e singole capacità motorie non hanno la stessa plasticità; sono più influenzabili la resistenza aerobica e la forza massimale rispetto alla forza rapida e alla velocità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Durante la vita il cambiamento della plasticità delle capacità motorie non si esprime secondo modalità identiche per tutte le capacità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o 1° 1 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C932-E06A-4095-BCA0-6E3FE8408499}" type="slidenum">
              <a:t>8</a:t>
            </a:fld>
          </a:p>
        </p:txBody>
      </p:sp>
    </p:spTree>
  </p:cSld>
  <p:transition spd="slow"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 Fattori della prestazion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a capacità aerobica è relativamente neutrale rispetto allo sviluppo del sogget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a resistenza anaerobica può essere allenata con maggiori risultati a partire dalla pubert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a forza massima aumenta maggiormente a partire dalla pubert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o 1° 1 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2B55-FA65-4009-9A71-240FC338CF66}" type="slidenum">
              <a:t>9</a:t>
            </a:fld>
          </a:p>
        </p:txBody>
      </p:sp>
    </p:spTree>
  </p:cSld>
  <p:transition spd="slow"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2T19:27:53Z</dcterms:created>
  <dc:creator>.</dc:creator>
  <dc:description/>
  <dc:language>en-US</dc:language>
  <cp:lastModifiedBy>dani.</cp:lastModifiedBy>
  <cp:lastPrinted>2001-06-02T19:51:41Z</cp:lastPrinted>
  <dcterms:modified xsi:type="dcterms:W3CDTF">1980-01-04T01:26:30Z</dcterms:modified>
  <cp:revision>15</cp:revision>
  <dc:subject/>
  <dc:title>SVILUPPO DELLE CAPACITA’MOTORIE</dc:title>
</cp:coreProperties>
</file>