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B86-BD40-4326-AE62-6FCF16BE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4E7-9F50-467E-BE3F-08D2FB93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03A-78FF-4942-A711-18492EF6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65D-4D33-4D5E-BCAF-531993C8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1F2-52F3-48CB-9777-44689DC9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899-FB14-48E8-AB09-9B427563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CCE-64A7-4F06-897A-DE70114E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7D2-30A5-4B56-A45E-596C89F8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C56-610C-49E0-9ABE-EC5FEFD0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A84-2568-4F49-852D-8001A6A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8C8-7F55-4EE1-975A-8B2E1DA0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CAA-CA44-47D8-BEB5-530193C1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692B-E966-4E90-8C24-08C3E393B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O 6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:\Archivio\Image\Volley\Logotipi\Fipav Logotipo.tif" descr=""/>
          <p:cNvPicPr/>
          <p:nvPr/>
        </p:nvPicPr>
        <p:blipFill>
          <a:blip r:embed="rId2"/>
          <a:stretch/>
        </p:blipFill>
        <p:spPr>
          <a:xfrm>
            <a:off x="6781680" y="1219320"/>
            <a:ext cx="905040" cy="97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6A0-9914-4EC4-AD28-BC955902D08B}" type="slidenum">
              <a:t>1</a:t>
            </a:fld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co in primo te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incorso generalmente avviene con un passo staccando un metro, un metro e mezzo da re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braccio che colpisce la palla deve muoversi in anticipo rispetto all’arrivo della stes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chiusura del colpo avviene con l’azione del polso e dell’avambrac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8B0-3BED-419F-84DC-B7C2BC9377E8}" type="slidenum">
              <a:t>10</a:t>
            </a:fld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t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ttica individu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à di risolvere i problemi di gioco utilizzando le tecniche apprese e stabilizz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ttica di squa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di gioco che permettono alla squadra di utilizzare nel migliore dei modi i singoli atleti in base alle loro capacità e caratteri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FB3-7B97-4AA7-AE9D-5D0A99E7B9F9}" type="slidenum">
              <a:t>11</a:t>
            </a:fld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i sistemi d’att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Per organizzare qualsiasi sistema di attacco è necessario che ogni squadra stabilisca un codice che permetta a tutti i componenti di individuare immediatamente il tipo di attacco che deve esegu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scelta del tipo di attacco da effettuare può essere fat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l palleggi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ll’attac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ll’allenatore (stabilita precedentement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27F-2080-4650-A62C-2DEE7E9A339D}" type="slidenum">
              <a:t>12</a:t>
            </a:fld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ttica di squad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zatore in prima lin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ttacco a due dalla prima li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ttacco dalla seconda li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zatore in seconda lin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ttacco a tre dalla prima li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ttacco dalla seconda li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E44-C63B-423E-9D22-D38665C0D466}" type="slidenum">
              <a:t>13</a:t>
            </a:fld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od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iluppo dalla capacità di colpire la palla utilizzando mano e polso per inviarla in tutte le direzio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olidamento delle varie tecniche d’attac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chi verso varie zone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chi contro il muro a uno e a d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co contro muro e dif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co in situazione di gio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o rice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o dif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35D-D680-4169-8F2A-7896C47AC31A}" type="slidenum">
              <a:t>14</a:t>
            </a:fld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tteristiche tecniche dell’att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ncorsa  due o tre pa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co : destro sinistro , permette di presentarsi nella posizione ottimale per attac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po sulla palla : estendere al massimo il braccio che colpisce la palla con azione finale del polso e della mano che imprimono la direzione alla p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C21-97B0-4CCF-9215-DA6FBC8D6565}" type="slidenum">
              <a:t>2</a:t>
            </a:fld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aduta : curare la fase di ammortizzamento e controllo del gesto, per evitare eventuali trau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ccentuazione o la diminuzione dell’arco dorsale, nella fase di stacco, contribuisce a variare il tempo d’impatto con la p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021-0FA5-492D-9193-D7E488455E95}" type="slidenum">
              <a:t>3</a:t>
            </a:fld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eseguire un attacco vincente risulta determinante il tempo di salto, è preferibile “aspettare  il più possibile” prima di eseguire le fasi di caricamento e colpo sulla palla, piuttosto che anticipare l’a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9BC-9802-40D2-BBBF-A903BE875DAD}" type="slidenum">
              <a:t>4</a:t>
            </a:fld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pologia dei colpi d’attac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tacco in diagonale sul prolungamento della rinco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rincorsa viene effettuata da sinistra verso destra rispetto alla 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palla va colpita al massimo dell’altezza possibile e indirizzata verso la parte finale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eseguire una diagonale più stretta si dovrà colpire la palla con una extrarotazione del brac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F2B-3324-4D3E-B94B-99A7AE63D965}" type="slidenum">
              <a:t>5</a:t>
            </a:fld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acco in paralle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ssa rincorsa che si effettua per l’attacco in diagon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può esegu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 torsione del bu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 il solo movimento dell’arto che colpirà la p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È molto importante  che gli atleti abbiano sviluppato la capacità di colpire la palla inviandola  con precisione nelle varie zone del campo (manualità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BD0-6EE4-4573-A18C-2FE48F37DD24}" type="slidenum">
              <a:t>6</a:t>
            </a:fld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llonet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incorsa , lo stacco e l’avvicinamento del braccio che colpisce la palla è uguale agli altri tipi dattac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momento dell’impatto con la palla c’è un rallentamento dell’azione del brac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contatto con la palla avviene nella zona posteriore della stessa utilizzando i polpastrelli delle d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64D-0379-4442-8089-0F62AF1B2D1D}" type="slidenum">
              <a:t>7</a:t>
            </a:fld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pi d’attacco utilizzando il muro avvers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capacità di utilizzare il muro avversario deve far parte del bagaglio tecnico di un attacc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uro es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uro in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lpire la palla in contro-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124-0CA5-41EF-A4FC-3B6986C74112}" type="slidenum">
              <a:t>8</a:t>
            </a:fld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co dalla seconda li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incorsa deve permettere uno stacco non esclusivamente in verticale ma in lun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alla va colpita alla massima altezza possi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dirizzare la palla nel campo avversario, è fondamentale  l’azione del pol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 6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D88-376A-48DF-8FA6-AA945E89FFB2}" type="slidenum">
              <a:t>9</a:t>
            </a:fld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21:53:09Z</dcterms:created>
  <dc:creator>Marangon</dc:creator>
  <dc:description/>
  <dc:language>en-US</dc:language>
  <cp:lastModifiedBy>dani.</cp:lastModifiedBy>
  <dcterms:modified xsi:type="dcterms:W3CDTF">1980-01-04T02:00:43Z</dcterms:modified>
  <cp:revision>24</cp:revision>
  <dc:subject/>
  <dc:title>MODULO 6C</dc:title>
</cp:coreProperties>
</file>