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505-46C4-4A60-B9B8-E6A655D3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97F-6284-417A-A947-F0B74C35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465-3BD8-48BD-9099-A189612D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AA8-8EA1-4D3D-AED0-01FEE9F4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B19-BC0B-4BE3-A82D-40940469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D9F-4BEA-4F45-A65F-14FDA312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D86-0673-48CB-9284-BAB4699B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14F-00EA-46BB-B5D8-F7052938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ED0-0CF2-4387-9A09-1A911FD1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CD1-BDCC-4497-91E5-44BAC9C2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2E8-4E34-4FFA-BE2A-7D92F49C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DAC-7734-44C6-9FA0-E7EC7B86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13B4-50E9-4D8E-AF01-235D9FBCF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Modulo 5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lzata : palleggio con cui si orienta la palla nella corretta posizione per  l’attac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:\Archivio\Image\Volley\Logotipi\Fipav Logotipo.tif" descr=""/>
          <p:cNvPicPr/>
          <p:nvPr/>
        </p:nvPicPr>
        <p:blipFill>
          <a:blip r:embed="rId2"/>
          <a:stretch/>
        </p:blipFill>
        <p:spPr>
          <a:xfrm>
            <a:off x="7467480" y="1371600"/>
            <a:ext cx="905040" cy="9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3F5-26C9-4661-9AE1-B555EEBDEFF7}" type="slidenum">
              <a:t>1</a:t>
            </a:fld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Evoluzione tecnica del palleggio d’alz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lla alta avanti e indie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nor impegno del busto nel pallegio rovesc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PPA SUCCES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mo tempo stretto avanti e die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condo tempo aperto( la velocità della palla deve permettere all’attaccante almeno le due direzioni d’attacco principal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A1F-AB87-46FC-B83E-36BED00C5EC3}" type="slidenum">
              <a:t>10</a:t>
            </a:fld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PPA SUCCESS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mo stretto avanti e dietro e secondo tempo aperto introducendo il palleggio in sospen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PPA SUCCESS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anti sul primo t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condo tempo ap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bin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FFB-329D-419D-AB9A-5A687BF8DED6}" type="slidenum">
              <a:t>11</a:t>
            </a:fld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li alzatori devono allenarsi in situazione di gio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viluppare al massimo la capacità di anticipare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l posizionamento rispetto all’arriv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ella p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assare  progressivamente ad eseguire l’alzata con le braccia al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llenare e sviluppare la precisione dell’alzata rispet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lla rete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(vicino lontano, corta lung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lla parabola d’uscita della palla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(1°-2°-3° tempo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182-3385-42A6-BD21-8304F993B3A8}" type="slidenum">
              <a:t>12</a:t>
            </a:fld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lla velocità d’uscita della palla (palla alta, spinta, molto spinta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ll’organizzazione dell’allenamento del palleggiatore ricordarsi che viene prima la precisione dell’imprevedibi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viluppare anche la capacità di alzare utilizzando il ba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32D-76E2-462F-87C9-20C891401D99}" type="slidenum">
              <a:t>13</a:t>
            </a:fld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ercizi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alitic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situazioni agevolate per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viluppo della tecn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lenare i palloni statisticamente piu pres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lo nelle varie situazioni possi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lenare anche l’attacco di 2° toc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ercizi tecnici in situazione di gioco a ritmo l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ercitazione in situazione di gioco con prevalenza degli aspetti tattic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09F-EC27-4762-9D35-72C812F6EAAA}" type="slidenum">
              <a:t>14</a:t>
            </a:fld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Tattica di squad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gni squadra deve organizzare il propri gioco d’attacco utilizzando un codice conosciuto e condiviso da tu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d ogni tipo di attacco corrisponde un simbolo (generalmente numerico) che permette si all’alzatore sia all’attaccante di individuare immediatamente il tipo di palla d attaccar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A0E-79BA-4F1E-96DC-591149C6EB78}" type="slidenum">
              <a:t>15</a:t>
            </a:fld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 di co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1 primo tempo av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2 primo tempo die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3 secondo tempo av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4 secondo tempo die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5 palla spinta av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6 palla spinta die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7 tesa av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8 seconda linea dal posto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17B-16FE-49F1-8F2C-CEF6214C4AE4}" type="slidenum">
              <a:t>16</a:t>
            </a:fld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eneralmente l’alzatore indica agli attaccanti il tipo di attacco scelto in quella rotazione qualora la squadra riceva in modo pos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uccessivamente verranno inseriti altri indicatori per individuare tutte le varianti possibili che ogni atleta riesce a realizzare rispetto ai colpi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E2C-5C5B-4982-AAA7-A488B2FFDE2E}" type="slidenum">
              <a:t>17</a:t>
            </a:fld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Caratteristiche tecni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postarsi anticipando il punto d’arrivo della p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contatto con la palla avviene davanti alla fro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posizione dei piedi è asimmetrica con un piede  avanti.( il dx p4er i destriman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braccia spingono le mani sia verso l’interno che av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33F2-AA4E-41FB-871A-64C78F5F57B9}" type="slidenum">
              <a:t>2</a:t>
            </a:fld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mani e i polsi sono rilass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palla entra tra le mani a contatto con i polpastrelli,i polsi si flettono quando la palla viene a contatto con le mani e spingono la stessa verso la zona dell’alz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ll’eseguire il palleggio , deve esserci la completa distensione  polsi/braccia verso la zona dell’alz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427-026D-4BE0-822A-D1A38A94F68E}" type="slidenum">
              <a:t>3</a:t>
            </a:fld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alleggio indie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riceve la palla nella stessa posizione dell’alzata av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palla viene impattata nello stesso pu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palla viene spinta velocemente sopra la testa , le spalle e le braccia si spostano indietro il contatto con la palla viene mantenuto il più a lungo possi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menta il tempo di contatto e la spinta del pollice che influenza sia le varie vasi di spinta sia la direzione dell’alz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01B-7936-4DB2-A1CA-AF0B1DFD0AC5}" type="slidenum">
              <a:t>4</a:t>
            </a:fld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Palleggio in </a:t>
            </a:r>
            <a:r>
              <a:rPr b="0" lang="it-IT" sz="4000" spc="-1" strike="noStrike" u="sng">
                <a:solidFill>
                  <a:srgbClr val="000000"/>
                </a:solidFill>
                <a:uFillTx/>
                <a:latin typeface="Times New Roman"/>
              </a:rPr>
              <a:t>sospens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ima avviene il salto e successivamente l’alz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vimento delle braccia tende ad anticipare l’arrivo della p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spinta della palla avviene utilizzando il polsi e le d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ACE-C654-452C-830C-3E146CC2D893}" type="slidenum">
              <a:t>5</a:t>
            </a:fld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Il palleggio in </a:t>
            </a:r>
            <a:r>
              <a:rPr b="0" lang="it-IT" sz="4000" spc="-1" strike="noStrike" u="sng">
                <a:solidFill>
                  <a:srgbClr val="000000"/>
                </a:solidFill>
                <a:uFillTx/>
                <a:latin typeface="Times New Roman"/>
              </a:rPr>
              <a:t>sospensione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si utilizza 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nticipare l’alzata e velocizzare il gioco d’attac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contenere un passaggio errato da parte dei compag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4CE-2250-4C5A-B6C6-F00AE31D44DB}" type="slidenum">
              <a:t>6</a:t>
            </a:fld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Indicazioni tatti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gni scelta tattica e legata ad una buona esecuzione della tecnica dell’alzata e dalla precisione del palleggia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lla scelta delle soluzioni tattiche procedere dal facile al diffic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palleggiatore deve conoscere le caratteristiche dei propri attaccanti (quali colpi d’attacco eseguono meglio) per utilizzarli al megl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AFB-E6F5-4FB1-BDF3-B81035075704}" type="slidenum">
              <a:t>7</a:t>
            </a:fld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uccessivamente essere in grado di scegliere l’attacco in base alle caratteristiche dell’avvers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apacità tecniche dei giocatori a m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stemi di muro adott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palleggiatore dovrebbe essere in grado di memorizzare, dal punto di vista tattico ciò che avviene nel campo avvers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abilità tattiche si sviluppano gioc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226-A86E-4714-BEB5-35D6773EF43D}" type="slidenum">
              <a:t>8</a:t>
            </a:fld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todolo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Approfondire il concetto dei vari vettori che concorrono al palleg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n sempre tutti i vetori sono necessari per inviare la p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l’uso di tutti i vettori spesso pregiudica la preci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. 5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35F-FFC9-4821-9A40-354D0F160C0C}" type="slidenum">
              <a:t>9</a:t>
            </a:fld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21:03:00Z</dcterms:created>
  <dc:creator>Marangon</dc:creator>
  <dc:description/>
  <dc:language>en-US</dc:language>
  <cp:lastModifiedBy>Marangon</cp:lastModifiedBy>
  <dcterms:modified xsi:type="dcterms:W3CDTF">2002-08-08T20:30:53Z</dcterms:modified>
  <cp:revision>27</cp:revision>
  <dc:subject/>
  <dc:title>Modulo 5c</dc:title>
</cp:coreProperties>
</file>