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DDA-ECE8-4C15-811F-1E8B54DE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02A6-1EDA-486E-AFB6-56EE38F4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7861-40F7-4948-8745-4E0BD430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E861-B7A4-400E-90FD-3DD68FD7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3B9-DF25-4BED-83DA-9FA2A6EA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6EA2-3239-4713-9718-B3FF3E24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7D2-784E-41F7-85B0-1B828621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5E2F-4727-4D3C-AA54-E066F62D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3FF-9B59-4651-BF68-B7D99083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810-F45B-47A5-A6A7-4D188E51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79EF-25B9-482C-8F54-456F2D6A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2A8-0FF1-4227-B163-F8972F59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CC8C-8087-4BD8-A37B-51336D89C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ttu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gni atleta deve essere in  grado di variare  il suo serviz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zando varie tecniche di battu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ndo le zone dove inviare la pa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tendo nelle zone di confli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A50-D430-43EA-BF2B-B4F8716D2D1C}" type="slidenum">
              <a:t>1</a:t>
            </a:fld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zione di parten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atleta si posiziona a 4/5 metri dalla linea di fondo ca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distanza , rispetto alla linea del campo, deve permettere all’atleta di poter effettuare la rinco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A6F-F441-4854-92D4-F5DD7591E255}" type="slidenum">
              <a:t>10</a:t>
            </a:fld>
          </a:p>
        </p:txBody>
      </p:sp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ecu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ò essere effettuato a una o due mani, generalmente i migliori battitori in salto lanciano la palla con la stessa mano che poi la colpir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alla va lanciata con una oscillazione del braccio avanti-alto, accompagnandola il più poss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damentale è la stabilizzazione della traiettoria del lan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F08A-9A5A-4275-B0EB-C9D4A34C9C40}" type="slidenum">
              <a:t>11</a:t>
            </a:fld>
          </a:p>
        </p:txBody>
      </p:sp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altezza e la distanza del lancio devono permettere all’atleta di colpire la palla in modo otti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incorsa è similare a quella di una schiacciata dalla seconda lin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alla va colpita a braccio disteso modulando la chiusura del colpo con il pol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DC3-576F-4CF4-9B62-8B79B4A26825}" type="slidenum">
              <a:t>12</a:t>
            </a:fld>
          </a:p>
        </p:txBody>
      </p:sp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ttuta flottante in sal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te in difficoltà il ricevitore sia nel valutare la traiettoria di arrivo della palla, sia negli spostamenti per portarsi sotto la pa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7473-2839-40A0-8434-FC157157544A}" type="slidenum">
              <a:t>13</a:t>
            </a:fld>
          </a:p>
        </p:txBody>
      </p:sp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ecu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cio: a due mani, l’altezza verticale della palla deve permettere all’atleta di colpire la stessa in modo ottimale e dipende dalle caratteristiche individu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tecnica del colpo sulla palla è similare alla battuta flot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9D8-943D-4866-BF59-CDE34BC410F0}" type="slidenum">
              <a:t>14</a:t>
            </a:fld>
          </a:p>
        </p:txBody>
      </p:sp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azioni metodologi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 apprendere ai giocatori più tecniche di battu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tta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alto / flot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59A-801B-4CA0-A37D-10D908752DB9}" type="slidenum">
              <a:t>15</a:t>
            </a:fld>
          </a:p>
        </p:txBody>
      </p:sp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essione metodolo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e di lanci senza colpire la pa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ncorsa con uno o due passi senza colpire la pa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lta del tipo di lancio più adatto alle caratteristiche fisiche dell’atleta (ad una mano, a due mani, con lo stesso arto che colpisce la pall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tute su obiettivi fissi( cerchi, materassi coni,ec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7C99-3A22-4567-9C58-3C221E229BA3}" type="slidenum">
              <a:t>16</a:t>
            </a:fld>
          </a:p>
        </p:txBody>
      </p:sp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ercizi di battuta contro ricevitori schierati nelle varie zone del ca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ercizi di battuta  e ricezione ad obiet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ercizi di battuta e ricezione/attac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C2A-B84F-42BA-B818-104FE930F2D4}" type="slidenum">
              <a:t>17</a:t>
            </a:fld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ttuta flotta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ette di mettere in difficoltà il ricevitore avversario nel valutare la traiettoria e il punto d’arrivo della palla nel proprio ca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7E5-3202-4A20-9281-2968891A83E7}" type="slidenum">
              <a:t>2</a:t>
            </a:fld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atteristiche tecni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cio preciso della pa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ccio che colpisce la palla est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o rigida e t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sima accelerazione nella fase finale del col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090B-2FC1-4948-BC84-105A7D317557}" type="slidenum">
              <a:t>3</a:t>
            </a:fld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zione di parten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be leggermente divaricate con peso del corpo ben distribui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tando avanti il piede opposto al braccio che colpisce la pa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usto in leggera torsione verso il lato dell’arto che colpirà la pa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lla nella mano oppo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665-8425-439C-90B4-4F9B22CB88D0}" type="slidenum">
              <a:t>4</a:t>
            </a:fld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ecuzio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nciare la palla di fronte alla spalla dell’arto che batte, accompagnandola il più a lungo possibile riducendo al minimo il tempo di volo della ste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palla va lanciata verticalmente all’altezza giusta per essere colpita e non deve ruot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B4E-55F1-4578-91F7-1E25455BC79B}" type="slidenum">
              <a:t>5</a:t>
            </a:fld>
          </a:p>
        </p:txBody>
      </p: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braccio che esegue la battuta effettua contemporaneamente un movimento di flessione estensione dietro-alto-av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alla va colpita con la mano rigida senza flettere il polso e estendendo il brac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colpo deve essere “secco “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nimo il tempo di contatto con la pall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 con la massima accelerazione finale del mov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462B-32FE-487C-8B71-7958AFE83547}" type="slidenum">
              <a:t>6</a:t>
            </a:fld>
          </a:p>
        </p:txBody>
      </p:sp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t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zando la tecnica della battuta flottante eseguire battu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a vicino con obiettivi predefiniti (inviare la palla in zone predefin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a lontano per aumentare l’efficacia della tecnica ( difficoltà tecnica del ricevitore al di là della zona ove viene indirizzata la pall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732-FF43-4536-B5BC-5F353EDDF58E}" type="slidenum">
              <a:t>7</a:t>
            </a:fld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ttuta in sal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te in difficoltà il ricevitore avversario nel gestire gli adattamenti rispetto alle traiettorie d’arrivo della palla e le zone di conflitto tra i ricevit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CD6-0FE1-408D-B073-9B31345E3EF3}" type="slidenum">
              <a:t>8</a:t>
            </a:fld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i della tecn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cio della pa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ncor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po sulla pa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C 1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9C6-1050-4512-9E3A-E0F86155F993}" type="slidenum">
              <a:t>9</a:t>
            </a:fld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7:47:41Z</dcterms:created>
  <dc:creator>Marangon</dc:creator>
  <dc:description/>
  <dc:language>en-US</dc:language>
  <cp:lastModifiedBy>Marangon</cp:lastModifiedBy>
  <dcterms:modified xsi:type="dcterms:W3CDTF">2002-08-07T20:11:05Z</dcterms:modified>
  <cp:revision>29</cp:revision>
  <dc:subject/>
  <dc:title>MODULO 1 C</dc:title>
</cp:coreProperties>
</file>