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1D7-AF5D-48F0-847B-B71455F1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8E0-EF3D-4BB3-887C-104D4C30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B21-7105-44E1-A9AF-1776A144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48B-7DCB-4455-9EE5-B9540039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8AD6-F995-416F-9230-E689138E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4C09-4F1F-4712-BDED-958761F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25D6-3217-4C93-9C13-D067AC93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0E0E-91BA-45BB-9AB4-6EDD823D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E041-F888-4C2C-A3EA-03DA97D7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63F5-3474-44FA-9A8E-DCC7CE44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4426-1D37-4BB2-A5DE-944ED41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681-6FE9-48E8-8137-7FF415B3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493F-8256-4FDD-9F92-C5D41A7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5F36-73A2-4055-B7D1-0B4CDE0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FC46-5D8A-4790-A2AD-357CCADD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59D9-8DF5-4317-892F-8D73F06D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B8A2-DF3D-47E0-A364-8C2BEBAC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825-5181-4417-AE44-1CD7F8AD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E5A-E0BE-41C3-9821-4ED8FA58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74D-8072-453B-A021-D57BECF9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BF5-7519-4C10-AA2C-661AD3EF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184-1DD4-4F6C-9B0F-1D6F5D21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CEA-A180-4748-9C1B-82C7B2DE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24D-0760-4FA2-90FA-6D539C4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F568-190B-47A0-984E-F2B7F23F33DD}" type="slidenum">
              <a:rPr b="0" lang="it-I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178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B6EA-E0A5-4C43-9CEA-915A0A5E1A9D}" type="slidenum">
              <a:rPr b="0" lang="it-I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78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BILITA’ TATTICHE E LORO INSEGNA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C:\Archivio\Image\Volley\Logotipi\Fipav Logotipo.tif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905040" cy="9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5C20-F207-4BDB-A686-8231A6768A45}" type="slidenum">
              <a:t>1</a:t>
            </a:fld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56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LE CONOSCENZE TATTI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conoscenze sono prodotti di natura cognitiva dipendenti dai processi mentali di produzione e riproduzi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conoscenze mentali sono un presupposto importante ad ogni allenamento tat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B02-993A-44D8-A5FA-ED0C8702A1D9}" type="slidenum">
              <a:t>10</a:t>
            </a:fld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o sviluppo delle capacità tattiche dipende d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apacità percet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apacità intellet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odelli probabilistici sogget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centrazione dell’atten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Volo1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191120" cy="26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FFB-684D-4C23-A8E6-3AC1BACEB965}" type="slidenum">
              <a:t>11</a:t>
            </a:fld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ERCEZIONE ED ANALI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svolgono attraverso il circuito funzionale senso mo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i analizzatori ricevono informazioni dal giocatore e dall’amb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raverso feedback interni (propriocettivi) ed esterni (esterocettivi) le informazioni vengono elaborate e filt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717-2049-4741-AD27-E979E35D3F5E}" type="slidenum">
              <a:t>12</a:t>
            </a:fld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a qualità della percezione e dell’analisi e determinata d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ttori generali di prest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cettori, processi ment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ttori speciali di prest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agaglio tecnico, capacità condizionali e coordinative, capacità tecnico-tattiche specifi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alità del “filtro” che permette di selezionare le informazioni utilizzab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851-D55A-4D39-945C-0560A260C0F1}" type="slidenum">
              <a:t>13</a:t>
            </a:fld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5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DECISI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no processi che dipendono dalla complessità del compito e d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piano regolativo intellettuale (criteri decisionali fattori generali e repertorio delle tecnich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piano regolativo percettivo cinetico (criteri decisionali : parametri energetici entro un quadro di riferimen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0A2-F276-4E55-8AC3-685B4E78349C}" type="slidenum">
              <a:t>14</a:t>
            </a:fld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356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ESECUZIONE E INTERPRETAZI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controllo dei movimenti e delle sequenze di movimenti viene effettuato per mezzo di dati sensoriali e dal confronto tra programma e risultati secondo schemi mnemonici e ricogniti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10A-DAA1-42AE-8B4D-2E0BB85528A2}" type="slidenum">
              <a:t>15</a:t>
            </a:fld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356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Metodologia e didatt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l’acquisizione delle abilità tattiche occorre distinguere t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ariabilità dell’esecuzione dell’abilità 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(abilità tecnich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ariabilità delle caratteristiche della situazione 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(abilità tattich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77F-BE6D-4791-85C6-B136DC35EFAC}" type="slidenum">
              <a:t>16</a:t>
            </a:fld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METODI DI INSEGNAMENTO</a:t>
            </a: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imes New Roman"/>
              </a:rPr>
              <a:t>Metodo Globa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vimento viene insegnato nel suo insi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imes New Roman"/>
              </a:rPr>
              <a:t>Metodo Analit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vimento viene insegnato dividendolo in tante sottouni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Scegliere il metodo tenendo conto della qualità e quantità di informazioni da assolv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350-CD42-43AB-A098-6C532D316AF3}" type="slidenum">
              <a:t>17</a:t>
            </a:fld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UCCESSIONE METODOLOGICA DELL’ INSEGNAMEN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bilità motorie spor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ariazione delle abilità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attamento delle abilità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ransfer delle abilità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mazione creativa delle abili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739-70D3-4E95-9FCC-1CDC04FAFAE8}" type="slidenum">
              <a:t>18</a:t>
            </a:fld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BILITA’ MOTORIA  SPORTIV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izialmente viene acquisita ed utilizzata in condizioni di situazioni costan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possono combinare più abilità che producono abilità compl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D25-7A44-427D-83AB-972543F34E8F}" type="slidenum">
              <a:t>19</a:t>
            </a:fld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ESUPPOSTI CHE DETERMINANO LE CAPACITA’ DI GIOC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2666880"/>
            <a:ext cx="7772400" cy="2990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quisiti Psichic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quisiti Tecnic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quisiti tattic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quisiti coordinativi e condizional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ADC2-FE7D-43EF-9EC8-EF54A3F3BA2E}" type="slidenum">
              <a:t>2</a:t>
            </a:fld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METODI DI INSEGNA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azioni di modelli di comport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etodo delle ripetizio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etodo delle informazioni gerarchizz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rie di esercizi, istruzione programm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haping </a:t>
            </a:r>
            <a:r>
              <a:rPr b="1" i="1" lang="it-IT" sz="2800" spc="-1" strike="noStrike">
                <a:solidFill>
                  <a:srgbClr val="ff0000"/>
                </a:solidFill>
                <a:latin typeface="Times New Roman"/>
              </a:rPr>
              <a:t>(rinforzare con regolarità o intermittenza sezioni parziali di un’azione comples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DEE-534B-422F-9E03-1F05615F83A2}" type="slidenum">
              <a:t>20</a:t>
            </a:fld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VARIAZIONE DELLE ABILITA’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Variazio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i parametri energeti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la velocità esecutiv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l’impegno della forz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l’ampiezza del movi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85D-B8D2-4B73-B759-6932DB1939B4}" type="slidenum">
              <a:t>21</a:t>
            </a:fld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DATTAMENTO DELL’ABILITA’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abilità motoria viene variata e impiegata in condizioni di situazione variabile ma comunque n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etodo d’insegnamento:allenamento in situazione di gio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lenamento ideomo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493-D70A-438C-BCD6-FC9C8FDC77CB}" type="slidenum">
              <a:t>22</a:t>
            </a:fld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FORMAZIONE CREATIVA DELL’ABILITA’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registrano e riassumono le informazioni relative alle diverse condizioni di successo in base alle esecuzioni  e alle possibilità precedenti, e quindi diventano possibili nuove azioni moto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dizioni di situazione variabili ed esecuzioni variate delle abili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19F-6104-4C31-82CE-BB79DBEA871A}" type="slidenum">
              <a:t>23</a:t>
            </a:fld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dicazioni metodologiche per migliorare l’apprendimento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8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mbiare le condizioni esterne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(campo più piccolo, rete più bassa, pallone più leggero ecc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odificare le regole di gioco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(più tocchi, un rimbalzo ecc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umentare gradualmente il numero delle variabili da seguire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(uno o più avversari a muro, attacchi obbligati in uno o più spaz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eguire esercizi in stato di affatic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2F9-D664-4ADE-A220-0C7B394BE9AF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ercitazioni di gioco simili alla gara per comprendere e utilizzare le tecniche più idon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azioni tattiche di gruppo e di squadra vanno stabilizzate con esercitazioni facilitanti (2 contro 2, 3contro 3, 4 contro 4,su campo ridotto, a tutto campo con limitazione tecniche-un tocco due tocchi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39E-D9FE-4157-A518-6CCA1D869A9E}" type="slidenum">
              <a:t>25</a:t>
            </a:fld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356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viluppare la capacità di scegliere programmi motori e obiettivi percependo e anticipando correttamente le situazioni proposte dal gioco attraver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ercizi facilitanti dove utilizzare “solo” alcune soluzio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381-F884-42C1-96C6-4147880A6A6D}" type="slidenum">
              <a:t>26</a:t>
            </a:fld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ercitazione di gioco facilitate creando situazioni tattiche defin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rcitazioni in condizioni simili a quelle di gara allenando le abilità tecnico-tattiche con obiettivi tattici precis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rcitazioni competitive a punteggio speciale per condizionamento tattico e psicologico (6 contro 6 con compiti tattici, giochi competitivi con lavoro sulla tecnica individuale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84A-9C24-4377-B96B-470F699097D2}" type="slidenum">
              <a:t>27</a:t>
            </a:fld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REQUISITI PSICHIC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alità vol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alità di atten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unzioni cognitive (capacità percettive,  capacità di anticipazione, capacità  mnemoniche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alità psicosociali (capacità di cooperazione e comunicazio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5FE-5ABC-44E4-A9CD-D611AE622DF1}" type="slidenum">
              <a:t>3</a:t>
            </a:fld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REQUISITI TECNIC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CNICA :esecuzione del movimento adatto alla situazione di gioco, alle caratteristiche fisiche del giocatore e perciò funzionale ed econom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cnica senza pall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postam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cnica con la pall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fondament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883-53DA-418B-A91E-FCBB5C481604}" type="slidenum">
              <a:t>4</a:t>
            </a:fld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REQUISITI TATTIC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ATTIC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utilizzo ottimale dei presupposti condizionali-motori(tecnica) specifici in ga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attica </a:t>
            </a:r>
            <a:r>
              <a:rPr b="0" lang="it-IT" sz="3200" spc="-1" strike="noStrike">
                <a:solidFill>
                  <a:srgbClr val="996633"/>
                </a:solidFill>
                <a:latin typeface="Times New Roman"/>
              </a:rPr>
              <a:t>individua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attica </a:t>
            </a:r>
            <a:r>
              <a:rPr b="0" lang="it-IT" sz="3200" spc="-1" strike="noStrike">
                <a:solidFill>
                  <a:srgbClr val="996633"/>
                </a:solidFill>
                <a:latin typeface="Times New Roman"/>
              </a:rPr>
              <a:t>collet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) decisione dell’obiettivo dell’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) decisione del programma (adeguato alla situazione) che va ristrutturato se cambiano i parametri inizi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B7B-A211-4F72-804D-56F08FBD0519}" type="slidenum">
              <a:t>5</a:t>
            </a:fld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56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REQUISITI COORDINATIVI E CONDIZIONAL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Tahoma"/>
              </a:rPr>
              <a:t>Capacità coordin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 controllo mo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 reazione mo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 differenzi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 combin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 trasform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Tahoma"/>
              </a:rPr>
              <a:t>Capacità condizion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062-107F-4AA0-8394-C26BDB83E811}" type="slidenum">
              <a:t>6</a:t>
            </a:fld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cessi decisionali negli sport di squadr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cezi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cisi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cuzio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terpret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 processi esecutivi sono caratterizzati dagli aspetti tecnici,coordinativi,condizion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 processi percettivi, decisionali, interpretativi, sono riconducibili all’ambito tattico-cognitivo e alla formazione tat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9DB-D074-447E-9280-A13B736503AE}" type="slidenum">
              <a:t>7</a:t>
            </a:fld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LLENAMENTO DELLA TATT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COPO: migliorare la capacità di azione tatt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pacità complessa che implica il coinvolgimento di più capacità, abilità, nozioni tattic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AFD-B533-418A-9183-BE85725F057D}" type="slidenum">
              <a:t>8</a:t>
            </a:fld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LE CONOSCENZE TATTI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oscenza delle regole di gio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oscenza dei sistemi di gio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oscenza delle regole tattic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oscenza dei rapporti tra condizione, tecnica, tattica, volon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 2 B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8F2-6A28-4136-8526-3AFFB304B759}" type="slidenum">
              <a:t>9</a:t>
            </a:fld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15:19:08Z</dcterms:created>
  <dc:creator>.</dc:creator>
  <dc:description/>
  <dc:language>en-US</dc:language>
  <cp:lastModifiedBy>dani.</cp:lastModifiedBy>
  <cp:lastPrinted>2001-04-20T16:23:50Z</cp:lastPrinted>
  <dcterms:modified xsi:type="dcterms:W3CDTF">1980-01-04T01:21:57Z</dcterms:modified>
  <cp:revision>41</cp:revision>
  <dc:subject/>
  <dc:title>Nessun titolo diapositiva</dc:title>
</cp:coreProperties>
</file>